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9E7-EBE0-45C4-B207-BF37A949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F020-9C12-4B7D-B22A-6C014A4B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0A31-3D72-4600-BDB6-7F15F381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7DD-8782-4FFA-B273-0C343E71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EB94-AEE0-4857-A1D2-F4FB0858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F902-43EA-4245-8093-7006ED6F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ECEC-0F2F-4A3A-8EB0-937DCB3C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98D3-874D-4D64-8E7C-EA62B8E6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DF71-CFBB-4E5B-A1E5-3F7AB7BF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35A0-14FE-4201-BAFB-A6E67DAE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3F2E-88E5-49A6-9F47-352D0596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23D-F01D-490B-BCFA-F68265BF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F5F6-3925-436E-ACD8-DC12CD6E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CF30-47B6-49C1-93C3-A006DB2D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6571-E36C-4C24-B3CB-AE615C86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EE42-40CE-4B99-BE60-4E2B6F73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24FC-5B51-419E-91C4-144B801A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188-9B30-4747-BC09-C6C22DAF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618-AD66-4D22-B68A-4686A77B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344-26EA-4FF2-B086-CB8D46B8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3833-CF7E-4978-BE59-EDD38548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46F-25B8-4068-9B85-016C5F1F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10FF-CA8E-4DF2-B27D-A2B8E4CE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2977-33B0-4706-9EC9-EF86DF7B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AD58-C2D8-4603-972E-B1530D9B02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FB0A-9CBD-4073-85DC-BBBD381F6A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oses’ Speeches On The Plains of Moab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 of Deuter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uteronom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Law:  Going Over The Law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Before Entering Into The Promised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Before The Leadership Is Handed Over To Josh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ive Books of Mo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= Beginn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dus = Leaving Egyptian Bond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iticus = Rites of Priest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= Numbering Israel &amp; A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uteronomy =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iving or Rehearsal of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uteronomy Speech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Be Afraid; Remain Faithful – 1:1 – 4:40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God Has Done For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ware Lest You Forget To Obey The Lord – 4:44 – 26:19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God Expects of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"What God Will Do for Israel" (27:1--34: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mmary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tt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arc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 of M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g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Egypt to Sin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Makes A Cove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Sinai To Kade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Plains of Mo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ey’s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06:38Z</dcterms:created>
  <dc:creator>Terry W. Benton</dc:creator>
  <dc:description/>
  <dc:language>en-US</dc:language>
  <cp:lastModifiedBy>Terry W. Benton</cp:lastModifiedBy>
  <dcterms:modified xsi:type="dcterms:W3CDTF">2004-12-16T22:27:54Z</dcterms:modified>
  <cp:revision>1</cp:revision>
  <dc:subject/>
  <dc:title>Moses’ Speeches On The Plains of Moab</dc:title>
</cp:coreProperties>
</file>